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789-8806-45B9-862E-63DEBE353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e the aims and methods of psychoanalysis, and how have they been adapted in psychodynamic 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are the basic themes of humanistic therapy, such as Rogers’ client-centered approa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What are the assumptions and techniques of the behavior therap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are the goals and techniques of the cognitive therap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What are the aims and benefits of group and family 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Does psychotherapy work? Who dec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7: Are some therapies more effective than oth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How do alternative therapies fare under scientific scrutin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What three elements are shared by all forms of psychothera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How do culture and values influence the therapist-client relationship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What are the drug therapies? What criticisms have been leveled against drug therap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How effective is electroconvulsive therapy, and what other brain-stimulation options may offer relief from severe depressio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3: What is psychosurge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4: How, by caring for their bodies with a healthy lifestyle, might people find some relief from depre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5: What is the rationale for preventive mental health progra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043-5912-4FAC-9CEA-994B55C2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619-8E09-4686-AA44-66FECED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7D7-7EAB-4B2E-9A48-FCA9B13A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BF1-770B-4791-93D8-5E41D247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ED1-407C-4047-9A57-364C1B1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228-0BE7-4CF0-88D5-39C148A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D58-94C6-48E2-8A4D-6EC6372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DD8-611A-413A-82E1-6BAF73ED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6DD-5C0A-408E-8D72-13762BF6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B86-9E28-48B9-B6B4-9F420595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EBF-598F-49AF-AEC6-65AA53B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648-38D2-442D-85D8-3618427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CF4F-E525-4B6E-9729-A6D55586E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E5C-E9BD-4BE8-9BB9-DF04A1D9B3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irst formal psychotherapy to emerge was psychoanalysis, developed by Sigmund Freu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1200" y="3048120"/>
            <a:ext cx="7557840" cy="234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74720" y="55468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gmund Freud's famous co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830000" y="4696200"/>
            <a:ext cx="122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Edmund Engle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F5C-B217-4AF6-9C54-76BE8FDAA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psychological problems originate from childhood repressed impulses and conflicts, the aim of psychoanalysis is to bring repressed feelings into conscious awareness where the patient can dea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4419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energy devoted to id-ego-superego conflicts is released, the patient’s anxiety less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64C-D5F6-43F4-B7BE-5EFB081C54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040" y="1600200"/>
            <a:ext cx="775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satisfied with hypnosis, Freud developed the method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ee associa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unravel the unconscious mind and its confli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140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atient lies on a couch and speaks about whatever comes to his or her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81440" y="4421160"/>
            <a:ext cx="3352680" cy="220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5261040" y="5479200"/>
            <a:ext cx="218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nglish.upenn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452-5AA7-4B4C-B3F2-D1504AA0B6C4}" type="slidenum">
              <a:t>1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uring free association, the patient edits his thoughts, resisting his or her feelings to express emotions. Suc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sista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becomes important in the analysis of conflict-drive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00" y="3962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entually the patient opens up and reveals his or her innermost private thoughts, developing positive or negative feeling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transfer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towards the therap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695-33F1-40B7-AB54-92B8D375A8A0}" type="slidenum">
              <a:t>13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analysis: Critic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 is hard to refute because it cannot be proven or dispr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 takes a long time and is very expen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A0B-50A4-4163-BCAE-C8A97F3F46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fluenced by Freud, in a face-to-face setting, psychodynamic therapists understand symptoms and themes across important relationships in a patient’s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00400" y="3549600"/>
            <a:ext cx="4510080" cy="30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7DF-94DC-4354-ABDA-EC055C1BF8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dynamic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rpersonal psychotherapy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 variation of psychodynamic therapy, is effective in treating depression. It focuses on symptom relief here and now, not an overall personality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1FA-A79D-4B94-BC35-DDCE727A86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istic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umanistic therapi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im to boost self-fulfillment by helping people grow in self-awareness and self-accep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885-2E22-4684-84B6-F957EF28FA6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ent-Centered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ed by Carl Rogers, client-centered therapy is a form of humanistic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140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therapist listens to the needs of the patient in an accepting and non-judgmental way, addressing problems in a productive way and building his or her self-este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1AF-4408-4D90-94DD-CDD0A6BAAF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9920" y="2971800"/>
            <a:ext cx="6462720" cy="3543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istic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therapist engages i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tive liste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echoes, restates, and clarifies the patient’s thinking, acknowledging expresse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396840" y="4983480"/>
            <a:ext cx="303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Michael Rougier/ </a:t>
            </a:r>
            <a:r>
              <a:rPr b="0" i="1" lang="en-US" sz="900" spc="-1" strike="noStrike">
                <a:solidFill>
                  <a:srgbClr val="000000"/>
                </a:solidFill>
                <a:latin typeface="Palatino Linotype"/>
              </a:rPr>
              <a:t>Life 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Magazine © Time Warner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66F-73D3-43AB-B3A3-6181E2484A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298620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Therapy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3047760" cy="30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03E-60B3-4FC3-BFE3-DB1E27D8A1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ehavior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apy that applies learning principles to the elimination of unwant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1400" y="32767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treat phobias or sexual disorders, behavior therapists do not delve deeply below the surface looking for inner c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015-B361-4803-95C4-02764FF23C9D}" type="slidenum">
              <a:t>20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cal Conditioning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unter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procedure that conditions new responses to stimuli that trigger unwant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400" y="3429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based on classical conditioning and include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xposure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versive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386-302C-4AEF-BEBF-0FC27A5C78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osur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ose patients to things they fear and avoid. Through repeated exposures, anxiety lessens because they habituate to the things fe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16680" y="1981080"/>
            <a:ext cx="287172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400000">
            <a:off x="6294240" y="3831120"/>
            <a:ext cx="3597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Palatino Linotype"/>
              </a:rPr>
              <a:t>The Far Side © 1986 FARWORKS. Reprinted with Permission.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4AE-673E-4E46-8B5C-FDF6509394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6040" y="3124080"/>
            <a:ext cx="38307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osur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360" y="1580760"/>
            <a:ext cx="80917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posure therapy involves exposing people to fear-driving objects in real or virtual enviro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5520" y="3124080"/>
            <a:ext cx="3809880" cy="296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32440" y="2552760"/>
            <a:ext cx="16876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5400000">
            <a:off x="3516120" y="5181840"/>
            <a:ext cx="16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N. Rown/ The Image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7467840" y="4721760"/>
            <a:ext cx="266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Both Photos: Bob Mahoney/ The Image 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C58-32CA-4335-A5CC-1781453F7A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ystematic Desensit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ype of exposure therapy that associates a pleasant, relaxed state with gradually increasing anxiety-triggering stimuli commonly used to treat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59436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1D8-FB56-4F13-9F79-793A803FAB4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672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versive Cond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2600" y="16002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ype of counterconditioning that associates an unpleasant state with an unwanted behavior. With this technique, temporary conditioned aversion to alcohol has been re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98952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5DD-4575-423A-85FD-FD26BE1E25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perant Cond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400" y="1419120"/>
            <a:ext cx="777240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perant conditioning procedures enable therapists to us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ehavior modification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hich desired behaviors are rewarded and undesired behaviors are either unrewarded or pu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1400" y="3886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withdrawn, uncommunicative      3-year-old autistic children have been successfully trained by giving and withdrawing reinforcements for desired and undesire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ABA-629C-467C-872B-43C8F3E03966}" type="slidenum">
              <a:t>26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oken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institutional settings, therapists may create a token economy in which patients exchange a token of some sort, earned for exhibiting the desired behavior, for various privileges or tre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4DC-1D29-43E2-BD93-DDBF3ED475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gnitive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0840"/>
            <a:ext cx="7986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aches people adaptive ways of thinking and acting based on the assumption that thoughts intervene between events and our emotional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5334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CE9-82E6-40C5-899C-221A8B96F1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ck’s Therapy for De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1600" y="1590840"/>
            <a:ext cx="7986600" cy="22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aron Beck (1979) suggests that depressed patients believe that they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n never be hap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thinking) and thus associate minor failings (e.g. failing a test [event]) in life as major causes for their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1960" y="4105440"/>
            <a:ext cx="79866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ck believes that cognitions such as “I can never be happy” need to change in order for depressed patients to recover. This change is brought about by gently questioning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97A-D73C-4A9F-AF08-E433957CD486}" type="slidenum">
              <a:t>29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Psychological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istic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and Family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B82-66B1-4B68-ADE6-5334D26655A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ress Inocul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1960" y="1600200"/>
            <a:ext cx="7986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ichenbaum (1977, 1985) trained people to restructure their thinking in stressful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400" y="34290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ax, the exam may be hard, but it will be hard for everyone else too. I studied harder than most people. Besides, I don’t need a perfect score to get a good grad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AD3-C4A2-4330-BEF3-BF9A79B7D3B0}" type="slidenum">
              <a:t>30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ognitive-Behavior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rapists often combine the reversal of self-defeated thinking with efforts to modify behav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gnitive-behavior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ims to alter the way people act (behavior therapy) and alter the way they think (cognitive therap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891-5381-4D8B-9405-540CB2AA154C}" type="slidenum">
              <a:t>31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roup &amp; Family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roup therapy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rmally consists of 6-9 people attending a 90-minute session that can help more people and costs less. Clients benefit from knowing others have similar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8840" y="3429000"/>
            <a:ext cx="5024520" cy="3235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5400000">
            <a:off x="6039360" y="5429880"/>
            <a:ext cx="232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Mary Kate Denny/ PhotoEdi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355-DD8B-4BF5-BF73-31F57106ED0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Family Thera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mily therapy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reats the family as a system. Therapy guides family members toward positive relationships and improved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267-2E71-46AA-BC0F-F940A0F0249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47360" y="1600200"/>
            <a:ext cx="76201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o do people turn to for help with psychological difficul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76680" y="2668680"/>
            <a:ext cx="4789440" cy="4071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valuatin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848-EF6C-447F-9F22-CD7CC8999DF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s Psychotherapy Effect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difficult to gauge the effectiveness of psychotherapy because there are different levels upon which its effectiveness can be measu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200" y="3733920"/>
            <a:ext cx="755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es the patient sense impr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oes the therapist feel the patient has im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friends and family feel about the patient’s improv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840-D5F9-499D-905C-C35A46915843}" type="slidenum">
              <a:t>35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ent’s Per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you ask clients about their experiences of getting into therapy, they often overestimate its effectiveness. Critics however remain skep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1200" y="3581280"/>
            <a:ext cx="7557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enter therapy in crisis, but crisis may subside over the natural course of time (regression to normal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may need to believe the therapy was worth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ents generally speak kindly of their therap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BB5-AA74-41AF-8A9E-42612C4BAE54}" type="slidenum">
              <a:t>36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nician’s Per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clients, clinicians believe in therapy’s success. They believe the client is better off after therapy than if the client had not taken part in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" y="3200400"/>
            <a:ext cx="7557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nicians are aware of failures, but they believe failures are the problem of other therap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f a client seeks another clinician, the former therapist is more likely to argue that the client has developed another psychological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nicians are likely to testify to the efficacy of their therapy regardless of the outcome of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6F2-1DF9-4753-98A7-524E432E8762}" type="slidenum">
              <a:t>37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utcom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 can we objectively measure the effectiveness of psychotherap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" y="3200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ta-analysis of a number of studies suggests that thousands of patients benefit more from therapy than those who did not go to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0B8-C1FB-4EA4-950A-1BA43481BD5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utcom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 shows that treated patients were 80% better than untreated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4560" y="2720880"/>
            <a:ext cx="6019560" cy="398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48F-7078-49BC-AEBD-701F5337FC0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Evaluating Psycho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Psychotherapy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Relative Effectiveness of Different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aluating Alternative Therap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alities Among Psycho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Values in 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3EA-9138-45FE-AE47-D128EF663CF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e Relative Effectiveness of Different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ich psychotherapy would be most effective for treating a particular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5880" y="2895480"/>
          <a:ext cx="7543800" cy="3162600"/>
        </p:xfrm>
        <a:graphic>
          <a:graphicData uri="http://schemas.openxmlformats.org/drawingml/2006/table">
            <a:tbl>
              <a:tblPr/>
              <a:tblGrid>
                <a:gridCol w="1981080"/>
                <a:gridCol w="556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is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, Cognition, Interpers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nxie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on, Exposure, Stress Inoc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uli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ve-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ho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1e0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d W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havior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1e0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1B0-E91C-44A5-8CD9-9EDD43D60CA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valuating Alternative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140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7% of those who have had anxiety attacks and 54% who have had depression have used alternative treatments such as herbal medicines, massage, and spiritual healing (Kessler &amp; others, 2001). Do alternative therapies hold up under scientific scruti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513-7568-49CC-8E37-710E6737265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ye Movement Desensitization and Reprocessing (EMD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4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EMDR therapy, the therapist attempts to unlock and reprocess previous frozen traumatic memories by waving a finger in front of the eyes of the cl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DR has not held up under scientific t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84C-748D-4B11-973C-7D25FBA6759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77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ight Exposure 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260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asonal Affective Disorder (SAD), a form of depression, has been effectively treated by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light exposure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This form of therapy has been scientifically valid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1012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400000">
            <a:off x="7575840" y="5091120"/>
            <a:ext cx="185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urtesy of Christine Br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966-CDDC-4C30-9FE6-7C070C2C213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mmonalities Among Psycho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1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ree commonalities shared by all forms of psychotherapies ar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200400"/>
            <a:ext cx="3566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hope for demoralized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new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 empathic, trusting and caring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191120" cy="285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5400000">
            <a:off x="7722360" y="4820400"/>
            <a:ext cx="232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Mary Kate Denny/ PhotoEdi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4AA-1F9C-4CDA-82FB-E59D483F74F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ulture and Values in Psychothera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therapists may differ from each other and from clients in their personal beliefs, values, and cultural backgrou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1400" y="3733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herapist search should include visiting two or more therapists to judge which one makes the client feel more comfor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CD3-7BF2-4B05-9B7F-BEBF33C0457B}" type="slidenum">
              <a:t>45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sts &amp; Their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inical psychologist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hey have PhDs mostly. They are experts in research, assessment, and therapy, all of which is verified through a supervised inter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4290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inical or Psychiatric Social Worker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have a Masters of Social Work.  Postgraduate supervision prepares some social workers to offer psychotherapy, mostly to people with everyday personal and family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8CC-6947-404F-B4DD-3101DF9D57B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sts &amp; Their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unselors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storal counselors or abuse counselors work with problems arising from family relations, spouse and child abusers and their victims, and substance ab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6576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iatrists:</a:t>
            </a:r>
            <a:r>
              <a:rPr b="0" lang="en-US" sz="28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are physicians who specialize in the treatment of psychological disorders. Not all psychiatrists have extensive training in psychotherapy, but as MDs they can prescribe medic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0B2-57D9-4820-ACC3-C15BDDC58C3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medical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se include physical, medicinal, and other forms of biological thera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86080" y="3429000"/>
            <a:ext cx="4343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FA0-B854-4C30-8FA6-66AA068749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040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pharmacology is the study of drug effects on mind and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00000" y="2438280"/>
            <a:ext cx="7315200" cy="3395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120" y="579132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he advent of drugs, hospitalization in mental institutions has rapidly dec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8B7-6D21-47FF-BF1A-4693E84FF03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90840" y="15951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Biomedical Thera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t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apeutic Life-Styl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vent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89B-48FE-4B67-BC1B-4AA514B037A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rug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many patients are left homeless on the streets due to their ill-preparedness to cope independently outside in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44880" y="3200400"/>
            <a:ext cx="4825800" cy="2867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6119640" y="502200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Les Snider/ The Image 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9E3-7814-4EEA-96C8-2445A98DE4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ouble-Blin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4720" y="1600200"/>
            <a:ext cx="809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test the effectiveness of a drug, patients are tested with the drug and a placebo. Two groups of patients and medical health professionals are unaware of who is taking the drug and who is taking the placeb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1F6-ED92-4CC4-9205-322B5D0B116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psychotic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3680" y="15998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lassical antipsychotic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[chlorpromazine (Thorazine)]: Remove a number of positive symptoms associated with schizophrenia such as agitation, delusions, and hallucin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" y="3962520"/>
            <a:ext cx="7924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typical antipsychotic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[clozapine (Clozaril)]: Remove negative symptoms associated with schizophrenia such as apathy, jumbled thoughts, concentration difficulties, and difficulties in interacting with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7D9-4867-4063-9E2C-B87F810D7F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typical Antipsych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ozapine (Clozaril) blocks receptors for dopamine and serotonin to remove the negative symptoms of schizophr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62240" y="3200400"/>
            <a:ext cx="45864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458-1307-4B98-9585-930D26A7FD1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22560" y="3048120"/>
            <a:ext cx="3070440" cy="3581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anxiety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anxiety drugs (Xanax and Ativan) depress the central nervous system and reduce anxiety and tension by elevating the levels of the Gamma-aminobutyric acid (GABA) neurotransmi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4040" y="4038480"/>
            <a:ext cx="746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416-43C8-44CB-9804-529CD0E07F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tidepressant Dru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585440"/>
            <a:ext cx="7758000" cy="1871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depressant drugs like Prozac, Zoloft, and Paxil are Selective Serotonin Reuptake Inhibitors (SSRIs) that improve the mood by elevating levels of serotonin by inhibiting reup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6480" y="3605040"/>
            <a:ext cx="31575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EB5-6E2E-4C17-B789-98D5AFC5865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-Stabilizing Med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62920" cy="1828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thium Carbonate, a common salt, has been used to stabilize manic episodes in bipolar disorders. It moderates the levels of norepinephrine and glutamate neurotransmi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9DB-FE14-404B-B879-6D3F8B344CC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St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lectroconvulsive Therapy (E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CT is used for severely depressed patients who do not respond to drugs. The patient is anesthetized and given a muscle relaxant. Patients usually get a 100 volt shock that relieves them of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43520" y="1600200"/>
            <a:ext cx="420048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EDC-E445-4E14-B33A-EFD619B3B87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ternatives to 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Repetitive Transcranial Magnetic Stimulation (rT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TMS, a pulsating magnetic coil is placed over prefrontal regions of the brain to treat depression with minimal sid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997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185-80B3-4D04-84EC-B12BF3162E5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228840" cy="4605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0880" y="1600200"/>
            <a:ext cx="419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 was popular even in Neolithic times. Although used sparingly today,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00 such operations do take place in the US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7725240" y="5068800"/>
            <a:ext cx="197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pub.org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27F-577C-47ED-9410-937D951F05D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story of Insane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95400" y="3811680"/>
            <a:ext cx="5334120" cy="281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treatment of the insane throughout the ages was the result of irrational views. Many patients were subjected to strange, debilitating, and downright dangerous trea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733480" y="575604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The Granger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564240" y="5756040"/>
            <a:ext cx="15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The Granger 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AD5-5A84-4CCD-B781-A452AF6651C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surg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096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surgery is used as a last resort in alleviating psychological disturbances. Psychosurgery is irreversible. Removal of brain tissue changes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57560" y="3429000"/>
            <a:ext cx="457200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9A7-C8A2-4A0B-ABE5-CF6E497F18C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event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1600200"/>
            <a:ext cx="6148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is better to prevent than cu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87040" y="213372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ruvian Folk Wis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960" y="32767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enting psychological disorders means removing the factors that affect society. Those factors may be poverty, meaningless work, constant criticism, unemployment, racism, and sex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4AC-4B6E-40CD-B09E-B74ADBC2A99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sychological Disorders are Biopsychosocial i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42960" y="1768320"/>
            <a:ext cx="6019920" cy="47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6FF-BECB-49C3-8EB2-9A42919390BE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story of Insane Trea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433520"/>
            <a:ext cx="7772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in France and Dorthea Dix in America founded humane movements to care for the mentally si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043080" cy="2741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678040" cy="2698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400000">
            <a:off x="3088800" y="51184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ihm.nlm.nih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3320" y="62330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hilippe Pinel (1745-182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1000" y="62460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orthea Dix (1802-188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7719480" y="559656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ulver Pi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620-D10F-46E8-96E6-0DCB18D866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volves an emotionally charged, confiding interaction between a trained therapist and a mental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30481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iomedical therap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uses drugs or other procedures that act on the patient’s nervous system, treating his or her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4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eclectic approac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uses various forms of healing techniques depending upon the client’s uniqu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2E2-B111-4047-BF6C-34D12A9D223C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Thera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will look at four major forms of psychotherapies based on different theories of human n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3429000"/>
            <a:ext cx="50151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analytic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istic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gnitiv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44D-0BE0-47FA-A0E4-CCD245B9EE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3:31Z</dcterms:modified>
  <cp:revision>1479</cp:revision>
  <dc:subject/>
  <dc:title>Memory</dc:title>
</cp:coreProperties>
</file>